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ct" ContentType="image/x-pict"/>
  <Override PartName="/ppt/media/image9.jpeg" ContentType="image/jpeg"/>
  <Override PartName="/ppt/media/image3.pct" ContentType="image/x-pict"/>
  <Override PartName="/ppt/media/image12.pct" ContentType="image/x-pict"/>
  <Override PartName="/ppt/media/image17.jpeg" ContentType="image/jpeg"/>
  <Override PartName="/ppt/media/image6.pct" ContentType="image/x-pict"/>
  <Override PartName="/ppt/media/image11.pct" ContentType="image/x-pict"/>
  <Override PartName="/ppt/media/image16.jpeg" ContentType="image/jpeg"/>
  <Override PartName="/ppt/media/image15.pct" ContentType="image/x-pict"/>
  <Override PartName="/ppt/media/image14.gif" ContentType="image/gif"/>
  <Override PartName="/ppt/media/image1.pct" ContentType="image/x-pict"/>
  <Override PartName="/ppt/media/image8.jpeg" ContentType="image/jpeg"/>
  <Override PartName="/ppt/media/image4.pct" ContentType="image/x-pict"/>
  <Override PartName="/ppt/media/image2.jpeg" ContentType="image/jpeg"/>
  <Override PartName="/ppt/media/image5.pct" ContentType="image/x-pict"/>
  <Override PartName="/ppt/media/image10.pct" ContentType="image/x-pict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4D8D3C-C41F-4A4A-A2D1-C6604E323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se screenshots to make the tutorial easy to fo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ider putting these in a duotang and leaving a copy at the front desk for when you are not wor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questions always come up or something needs to be re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motion is really important – if people don’t know what you’re here for how can you possibly help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ewsletter: can have neat links of all sorts, seasonal link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nture outside b/c not everybody is a big reader and may not see your posters other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B44-179E-4D68-8C45-4FA0F88F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1F6B-54B1-4A82-A892-5138EC24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3D5C-3FB0-4095-B439-EF99F817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1BF8-5EFD-4478-B60B-C2798EF2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CE2A-5DEB-40E6-8654-F010ABA9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C408-08CC-4397-A869-6FE81545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109A-8121-47C3-B8E2-5F712655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1341-3A4E-4F44-A6BD-FE162008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C071-7D80-4AF6-B9F0-037B686B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8288-CF33-4D39-BC81-4B7ABDF7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2BE1-A712-4BC2-BFF9-5034C6BD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5DF-38F9-4A89-975A-56EB42C4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0AC5-8DBC-44D8-86C6-B09DDB30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DD8B-E89E-4DF2-AAAC-A0D525B2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011C-AD39-4326-A96E-0BA0D74C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D221-9AA8-417B-96C9-DB4E4A32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CBA8-980F-47B8-95C8-CF4CB133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A21-2EC0-46FF-BCA0-E0F7C527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F2C9-1AE3-484C-8952-A868C8C2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B9E-6C0A-4491-B8FE-4DAF0246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30AB-4183-49FE-B30B-E800ED17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C501-79FC-4E5D-8BC3-3258993C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95C9-82FF-461B-BC3B-B109BB51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390F-084A-42F0-8BB7-142F1373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58EE-2E67-4B76-99D2-F628E729A8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AF14-C385-4D9A-9059-560B5FF641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apstats.ocl.net/cgi-bin/yabb2/YaBB.pl" TargetMode="External"/><Relationship Id="rId2" Type="http://schemas.openxmlformats.org/officeDocument/2006/relationships/hyperlink" Target="http://www.youthontario.com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57150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leksa Berzinis and Jennifer L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276360" cy="29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people are very nervous the first time they use a comp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make them feel more comfortable and never assume that they know how to do someth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971800" y="4191120"/>
            <a:ext cx="315900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ke Lessons More Comfortab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ons may already be feeling uncomfortable coming in to learn about something they no very little or nothing about... Like compu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allow the patron to feel more comfortable if you allow and encourage them to bring a friend along with them to their training session to learn together in a very friendly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ep it Simpl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many of the patrons that come in for computer training are not that familiar with computers to begin with, using computer vocabular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.e. icon, desktop, application, word processor etc.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Unicode MS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stead explain what each new term means while using it to make the patron more comfortable with the computer “lingo”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29000" y="4971960"/>
            <a:ext cx="21337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Mou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ing that hinders most new users is the m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09480" y="2895480"/>
            <a:ext cx="4419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patient and show the user how to hold the mouse. Some will try to “hover” with it and others will hold on to it for dear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the different buttons are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*See MouseRobics for he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ild’s Pl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children’s lessons fun &amp; not too rig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ve a plan, but tailor it for the specific chil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as educational as possible without overwhelming the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lk to the parents to see what the child needs to know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19520" y="4191120"/>
            <a:ext cx="3208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ni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get frustrated eas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 especially patient with them &amp; give them time to let things absorb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 to enjoy taking out computer books and reading until they are 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1817640" cy="1812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676520" y="4572000"/>
            <a:ext cx="6019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Book Sugg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t’s Never Too Late to Love a Computer” by Abby Sto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making printed tutorials for patrons to take wit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visual learners an easy way to re-do and review step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rief, to the point, no unrequired informa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733920" y="4419720"/>
            <a:ext cx="17985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sson Plan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for one on one or group les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experience varies, you will rarely be able to stick to the plan 10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352680" y="3505320"/>
            <a:ext cx="2589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elpful Sites for Creating Tutorials and Lesson Plans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bcschools.net/staff/MicrosoftOffice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icrosoft Office 2000 tutorials, great for all skill leve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fgcu.edu/support/office2000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ore Microsoft Office 2000 tutorials - also great for all skill leve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download.com/3001-2102_4-10441206.html?idl=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download a free trial, great for beginners getting to know the key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ckls.org/~crippel/computerlab/tutorials/mouse/page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seRobics – a website that is great to familiarize beginners with themou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oredom: Not an Op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AP worker, chances are you won’t get bored… but here are some suggestions in case yo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an open house or drop in n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ze yourself with librar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yourself (re)organ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more promotional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some tuto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some hand outs promoting internet 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your supervisor where you should be head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162920" y="2743200"/>
            <a:ext cx="14475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elcome to CAP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ful Tricks and 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42900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ading Mater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our your library’s computer section to get an idea of what might be helpful to pa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books are outdated, but that’s okay because a lot of “newbies” buy secondhand systems that may run Windows 98/200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553080" y="4595760"/>
            <a:ext cx="2286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learn a lot during CAP, and if you need any help do not hesitate to ask your fellow CAPpers, your supervisor, or your R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look forward to working with you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124080" y="4495680"/>
            <a:ext cx="25624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 You Have An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ips &amp; Tri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gin County is in CAP Network 15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AP message board is located at </a:t>
            </a:r>
            <a:r>
              <a:rPr b="0" lang="en-US" sz="27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capstats.ocl.net/cgi-bin/yabb2/YaBB.p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e of the most informative CAP sites is </a:t>
            </a:r>
            <a:r>
              <a:rPr b="0" lang="en-US" sz="27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youthontario.net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ur network’s old site can be found at www.geocities.com/capnet15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Your RC: What to Send Th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submit a written report each week to your R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submit a monthly statistics report at the end of each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your promotional materials need to be sent to your R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250" autoRev="1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Your RC: What they 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C helps make sure that everyone in the region is staying on track and getting in their statistics &amp;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C will try their best to help you out of any sticky situation (training questions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C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’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lp you with any hardware problems. Those need to go to the County’s IT depar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romotional materials must be approved by your supervisor before you share them with the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ss that your services ar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newsletter with neat links and relevant information to your commu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ure outside your library. Posters at the post office, grocery store, etc, will attract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lpful Hi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have patience when working with a pat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yourself bu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n touch with other CAP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29000" y="4267080"/>
            <a:ext cx="198108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962840" y="1143000"/>
            <a:ext cx="1181160" cy="2044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w to Contact Other CAP Worker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mail.elgin-county.on.ca/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ho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://library.elgin-county.on.c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on “Branches” and then “Location” and you will find the phone numbers for each branch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seful Thing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ay pl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folders, duotangs, binders, di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½” disks, CD-RWs, or a USB drive to save your data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533520"/>
            <a:ext cx="1581120" cy="1836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733920" y="4800600"/>
            <a:ext cx="18158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3T21:03:24Z</dcterms:created>
  <dc:creator>User</dc:creator>
  <dc:description/>
  <dc:language>en-US</dc:language>
  <cp:lastModifiedBy>Jennifer Marriott</cp:lastModifiedBy>
  <dcterms:modified xsi:type="dcterms:W3CDTF">2009-01-15T15:05:45Z</dcterms:modified>
  <cp:revision>19</cp:revision>
  <dc:subject/>
  <dc:title>CAP Orientation</dc:title>
</cp:coreProperties>
</file>